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64AA6-AEF6-494A-8A61-9EEE32D35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8538-6C43-4766-B10D-2F546D23D6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F0E9B-A789-48A3-BAFB-FF46DFB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4D9F1-B410-4D13-B218-869BE80A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1E4D7-EDDA-4F3B-9FD4-7C0FEC3E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5C30BD-02E5-45BB-B4C7-536D2BF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F8018A-AED1-45F9-9285-F38195A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D9C8F-6DB8-46B2-941E-2747948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66316-9274-4C24-BEA8-6B481289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4CFC4-28FB-4ACC-9956-58B6D60C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91E8D-30D6-4E9F-A24C-180C0A9F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C20D4F-A0EC-4F21-9AF1-302BE7E8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CD94-70A0-4D87-B93A-669ADCC11E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B1975A-688C-4F46-A88C-CC495198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AB813-14E4-4179-8447-761C1DEB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7A6F4-753E-41EF-857D-0FF5D7A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6EAF33-7E54-4278-A2A4-28B1165A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7BDE0C-3DDD-4504-913B-A8F0916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786752-E3C4-4323-AE09-E74547C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2BC9D5-DFDF-4848-BEFB-01E437B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40DA7-C972-48DA-BA43-9FD4D41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9BEDD-5559-44DB-9CA8-B2DDBB8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8E1395-055D-4A64-82F0-AD19AC5D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32C5-B329-4430-8B65-EFA907BC22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5C344-EA90-40DE-9875-2938B778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DC32F-5DF1-4607-A173-23EC38D6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E360C7-537F-40C8-9B53-BF1604DF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D4E44-BF1F-4DA4-9841-64652134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F42A6-2760-4B69-B644-85A997E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6A4BA4-6C65-4E30-B9ED-E2677E98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BD9C2A-6184-42F6-84DF-7D6B24F2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FD4508-0A1F-419D-B116-913F2C85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88D3CD-0320-4F0B-A39B-66A4D45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E41EB3-F2A3-4E1D-98D1-0E552422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78B1B-0FC6-47B3-A39D-B87D4441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790E1B-A61D-4219-8A7C-ABDCDBAF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AE275F-351A-4E8F-96B1-F1AD22D2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4D84F8-F61C-47D8-96A3-8AF67788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995981-C8E0-442E-9633-3FDF7337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33B018-C244-4FE1-94BA-24D7390A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D81924-06B4-4C7B-AA7C-5D8EB0D9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D9F17D-67DB-4EFB-87EB-84ECC268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CEBB00-68FB-47BC-8119-377D95AF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F9632F-0396-407E-984C-2B098A3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54CB5C-2132-45CE-A312-F46FC8F4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BBF8-9E3E-4810-A9EB-445EAF1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D407A6-3BDE-42FB-9B03-B8BE4832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27F959-39F9-4CA0-9F9A-F3EC77ED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FDCA04-AE67-4DD0-A863-58ACC9C1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3C7042-3954-4095-9DBA-A54A3749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E93CCE-3D77-452A-9030-1071B3FD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6028A-848B-45B3-8740-63F8D45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C8219-3274-47C5-A2C8-55052E2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03171-3F1F-41FD-AC80-6512ACA8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8F7D9-338C-486A-A036-59FFD521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CE90-1432-4DC9-A2F3-EA8A2CC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6459-80F5-41D1-8D1E-B75393CBC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18F7-E28B-44C2-93CC-011FA1A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1B199-E009-4458-B0F3-9BB0A4F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6CB5-857A-4A54-AFDC-B061975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38720-2452-49D4-8FF5-CC21B06D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9A07-25A1-4F38-8364-89B08AE5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7984D-896E-4CEE-B787-2724ED3C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AD323-3D00-41C4-A670-1532B52F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90F65-7FEB-4554-AD9F-EFD241D3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9F69D-AC17-468E-9E99-671B87BA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ED2E-0143-4C31-80A4-15F41439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0CCD-8E3B-418C-9C97-072A32B12D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CAA55-E841-455C-B190-7B9D8F89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1C29C-9F21-4BC1-9336-1575E38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38182-CC52-454F-95DD-C240C07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76AE4-91CB-4E69-AF0B-21E3680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4281D-3D0A-44A7-8025-E1C9A2A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7650A-A526-4275-AF94-1D4AC74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C6787-C787-4BB3-9772-B7FEF809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068F4-2318-4C89-9EA1-C16B2AB0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43CAB-64CF-4B3A-89E6-513687A7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E1A016-8E56-4727-9B5B-BA9E427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739A-F973-4B08-B62C-F5F0A01AAA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E3BBC-C782-4EA2-A636-9D6563C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29085-B066-4171-8407-DD4A46B2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5D00C7-D8C0-4C13-9A07-2DC5CCC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F263F-C587-4387-89B1-68DAE96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AE4C7-3BFF-4D58-9F4A-B607C45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2F83E8-26B8-4FB0-97A2-85CB802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56A8B-37BE-42F1-8B43-0B0593FB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D41EC-671C-4C7C-853F-AABC3D07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46E2E-C58B-4F50-812E-11E72870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074C6-7D93-4C0D-837E-4C9E6B16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556F-E02A-4D9D-A86F-60274B0C70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99E48E-6955-4FFB-9378-ABCAA20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07AA1-6774-4C70-9EDC-55CC786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5140B-D94E-4126-8A2F-A85A7CBF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9E27B-4E28-4801-B61F-251C3CD8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FD3A3-18EF-4A25-8DF5-FC5F8EF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2F3B2-E9F5-4FFA-9780-8100032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97240-B68E-4DF7-9282-5ED31223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41FD2-0AE9-4190-8D76-76392017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8E4C3-2127-4F5D-A442-A136444C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9DB03-1C24-4691-81E6-96170C8A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7FEF-5ECE-4C47-BE84-DF7A9AE81D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452FB-CC31-4F3C-A379-D80361F2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1AA25-F2B5-489A-B95D-797B4E4A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EEF2F-3F72-4BD8-8B53-821346B2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C23F20-CD5F-477C-BDA7-37E038B4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10084-F949-4A70-B0D7-457B1E55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7C89D-7581-4813-9036-BAD0DAD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D8D72-EC07-4D49-82B6-8396CA56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A83DD6-8521-4348-BF6E-D458BEC6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77F8C-DF20-42A7-A906-BC33DDA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2D091-12E5-4A8E-B5F0-6C3AE09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178F-0BB2-4D31-A950-B8CA4B1CC3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EB5B0-5EC1-41BE-BBDB-E825836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9C1BF-7E40-4F23-ACEA-1C8CFA33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92C13-AC97-414A-AE19-30B75F4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6ED18-1168-411D-81C3-189178D7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5CEFC-A449-40F4-8A7B-BA7A002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73CF5-872A-45C1-BAB5-62219F5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46A40-7939-4BE2-A98A-37AA2C4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511E0-C830-4135-A070-F183E8F2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0D1FB-04D7-48F1-8D82-01CC4E59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BC344-FDAC-402D-8BB9-406E1D8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0CAD-3DD6-4A1D-834E-3D56691581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CA08A-4498-4910-9296-BF0F7A8B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F0C53-A664-4702-8EF3-2581865C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2B3F9-38EF-46AB-BDD8-781D32EA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7496D-D067-41E0-9BA3-12E0E0D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EAF89-EE25-4CAE-80A7-57E3C549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0FCED-C9B3-44AE-A90D-6DEE96A1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AD07BE-FB16-45D9-AA3D-94E71BE4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48399-764D-4393-B663-95E65058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B556B-A751-4E14-BC70-376C956D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BBD7B5-3EAD-44D5-8C6B-F2EF297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D2A3-D2AC-4881-A792-CFD954D541F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9CFC6-1DF4-456D-8F04-026E039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3BADB4-0884-4C31-9A74-F707BD3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2E39B-2783-4176-823D-C0F768D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F33ACB-79D7-477C-9B1A-8CE09A5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9FE325-8FB5-44E8-AEF2-0E74651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BD7FDD-D083-448E-8CC2-C91BF209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9A599-C8D1-46B1-A11C-BE471115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3560E-3CD8-4E45-9B49-3F9938C6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5BDD7-5F6D-476C-87E4-5F40B3BA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16EB9-53ED-4133-8BCE-D6718815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4FE-6413-48FC-ABB5-642D10DD15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7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B39-5D42-45A8-9E15-B9D5AB2060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B97-4CED-4EC5-9F8D-1B407D8149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A44D-6E26-448F-846C-322A26A3C5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1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7e9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e9e7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C921-3B81-406C-B94E-36BBE24F2D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CDF0-A00E-485E-8A03-A6D00905ED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Chevron 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C5B-325A-4545-B9B3-1953A5E1E2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40F7-93EF-45BA-A6B1-C144286B07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7013-82B5-4F53-81B4-9509674379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9A7-4BB6-4417-950B-135EC1E0F7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0579-466B-4585-A34C-DAF6B25B8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480-BBF4-48F4-964B-53E7D2A7E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96464"/>
                </a:solidFill>
                <a:latin typeface="Arial"/>
              </a:rPr>
              <a:t>Ancient Egyp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marna Peri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. 1349–1336 B.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menhotep IV replaced entrenched religious cults with an unpopular monotheistic religious syst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amatic stylistic and iconographic changes occ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 the end of the period, traditional artistic style and the priestly hierarchy were reinsta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4B1-E9BC-470D-AD41-390D2C44E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utankhamon’s Tom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utankhamon reigned c. 1336–1327 B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s tomb was discovered intact in 1922 by English Egyptologist Howard Car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ffigy demonstrates the return to traditional iconograp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ntents of Tutankhamon’s tomb ultimately became one of the world’s most popular and widely traveled museum exhib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193B-765C-4BB9-B930-C07D6C5699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ypt and Nub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bia was rich in natural resources and was often raided by the Egypti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Eighteenth and Nineteenth dynasties, the Egyptians built their most imposing temples in Nub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ock-cut Temple of Ramses II—one of six colossal structures south of Asw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roë—artistic style of artifacts derived from the Egyptian style but demonstrate artistic and architectural independence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DC9-4FCC-4418-AC20-771996F6F9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ift of the N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floods created a fertile river vall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me of one of the most enduring and powerful civilizations in the ancient 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harao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wer over the people and land virtually absol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umental art on a vast scale begins with their ru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igned mostly uninterrupted from the fifth millennium B.C. until 343 B.C in the Late Dynastic peri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3E94-6AC5-4487-8299-2C7EC5601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Egyptian Concept of Kingshi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gyptian kings considered themselves g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ir behavior not an example for the public but a distinction from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lette of Narm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ed to project the ruler’s pow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claims Narmer’s rule of both upper and lower Egy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ry image conveys Narmer’s might and impor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431C-18DB-4FE0-8930-A759377BAF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umental expression of pharaoh’s power, and his burial pl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ceded by smaller funerary structures called mastab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est known were built for three pharaohs of the Fourth Dynas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hufu—known as the Great Pyram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hafre—son of Khuf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nkaure—son of Khaf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A2A9-602F-4111-8023-57F553593D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gyptian G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7A15-F6E5-41F2-92F9-9080136E57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"/>
          <p:cNvGraphicFramePr/>
          <p:nvPr/>
        </p:nvGraphicFramePr>
        <p:xfrm>
          <a:off x="1066680" y="2498760"/>
          <a:ext cx="3246480" cy="3154320"/>
        </p:xfrm>
        <a:graphic>
          <a:graphicData uri="http://schemas.openxmlformats.org/drawingml/2006/table">
            <a:tbl>
              <a:tblPr/>
              <a:tblGrid>
                <a:gridCol w="777960"/>
                <a:gridCol w="2468520"/>
              </a:tblGrid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u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ackal g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sun d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elper of women in childbi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Nile fl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ath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tector of the palace; fer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or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alcon g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mhot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ief minister of Zoser; god of learning and medi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4830840" y="2498760"/>
          <a:ext cx="3246480" cy="3292560"/>
        </p:xfrm>
        <a:graphic>
          <a:graphicData uri="http://schemas.openxmlformats.org/drawingml/2006/table">
            <a:tbl>
              <a:tblPr/>
              <a:tblGrid>
                <a:gridCol w="777960"/>
                <a:gridCol w="2468520"/>
              </a:tblGrid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vine 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uth, right, and orderly condu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ife of A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si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the under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t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reator god of Memp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a (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n god and supreme ju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rap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bination of Osiris and Ze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storms and viol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o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od of writing and wis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ld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649–215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ath: a transitional phase to existence on another pla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ch of art and writings surviving today are funer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gyptians had great interest in continued material existence in the afterli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ulp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ain conventions followed for sculp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ore important the person represented, the more rigorously the conventions were observ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gyptian Canon of Proportion—commonly accepted guidelines for depicting the ideal human fig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063-E0A0-4AC5-A60F-4D685FA034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Middle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991–17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numental architecture continu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 form of tomb replaced the pyram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 political turbulence, a new approach to royal representation emer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71E2-4E1F-4000-9EF8-768BE9158A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mple construction continued to be ref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mples were considered a microcosm of the univer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mple of Amon-Mut-Khonsu at Lux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mple entry reserved for the eli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tecture had a careful transitional qu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tshepsut’s Mortuary Temple and Sculp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tshepsut was the first female pharao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 architectural innovation of her reign was the terraced mortuary temple at Deir el-Bahr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4B99-BB6C-4CF1-A716-E885219BD1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ew King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550–107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cient Egyptians were the first to use synthetic pig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ypsum Plaster—in the tomb of Nebamun; abundant use of pale blue pigments made from lapis lazu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pyrus—painting on papyrus from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ook of the Dea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used graphics and hieroglyphics to help illustrate a funerary ritu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mb of Nefertari—one of the best- preserved group of New Kingdom pain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vealed the extraordinary richness of color and complexity of Egyptian royal bu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E2F5-43CA-41B6-9879-BBF1194BB1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7:56:54Z</dcterms:created>
  <dc:creator>bekbek</dc:creator>
  <dc:description/>
  <dc:language>en-US</dc:language>
  <cp:lastModifiedBy>krishna.prasad</cp:lastModifiedBy>
  <dcterms:modified xsi:type="dcterms:W3CDTF">2010-10-19T07:04:04Z</dcterms:modified>
  <cp:revision>137</cp:revision>
  <dc:subject/>
  <dc:title>Chapter 1</dc:title>
</cp:coreProperties>
</file>